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"/>
          </p:nvPr>
        </p:nvSpPr>
        <p:spPr>
          <a:xfrm>
            <a:off x="4073400" y="-180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2"/>
          </p:nvPr>
        </p:nvSpPr>
        <p:spPr>
          <a:xfrm>
            <a:off x="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3"/>
          </p:nvPr>
        </p:nvSpPr>
        <p:spPr>
          <a:xfrm>
            <a:off x="4073400" y="9023040"/>
            <a:ext cx="31147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96E56E0-E58A-41E7-87B9-5A0C05A1CD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1BC0944-1C2D-477F-9062-048255BB0F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F67A235-3AC4-40B2-A447-09F60581126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27240" y="717480"/>
            <a:ext cx="4734000" cy="35496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212A2B2-05D6-4D9D-9693-42C23B5B35A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453BA36-21A6-4EBC-99AC-3C6553A3F0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59D7A4E-5A59-4EC9-86B4-00899A90E1A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F249D25-D029-4594-BC95-3363A9F2896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0C26B86-9BD3-4C2D-B02D-A3940855826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0EA36B8-4B46-4BD1-ADC0-531E3208C65C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B443618-6219-431D-BDE3-84AC4FDE5A5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97EDEF2-4D28-4C23-B65B-F835FB902823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7233808-18F4-4728-822C-DA162353F80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A88E490-3DDE-43A3-A3AF-3B5FB931943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881E717-4133-4E7D-9EC8-EE108AB2D58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6D7A7A1-68FD-49CB-B012-206AD4A85BF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57DA7B6-7A4A-462F-90A6-ED8C58FD70C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F86D05B-EF0A-4AC1-9352-94AC91D189F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063880" y="639720"/>
            <a:ext cx="2840040" cy="21304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DD0F847-DA68-4FB3-831B-5AEA1385BF9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2062080" y="641520"/>
            <a:ext cx="2838600" cy="21286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92200" y="2897280"/>
            <a:ext cx="6013440" cy="604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A2C9C00-0090-4734-9EC5-769697A602B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2062080" y="641520"/>
            <a:ext cx="2838600" cy="21286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92200" y="2897280"/>
            <a:ext cx="6013440" cy="604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5182A25-C2C6-47C8-837A-636E9C25830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2062080" y="641520"/>
            <a:ext cx="2838600" cy="212868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92200" y="2897280"/>
            <a:ext cx="6013440" cy="604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50969FF-3812-4936-9CDB-182CEE123C8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2062080" y="641520"/>
            <a:ext cx="2838600" cy="21286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592200" y="2897280"/>
            <a:ext cx="6013440" cy="6041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A910B74-7363-496F-8512-8E39CA11ED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E300FD3-13DD-4FDF-88F5-D56A0DF4D16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20970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5F0B4FC-9800-43B9-B65C-1F9491C6AA0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FEAD9B0-EA69-463D-8DA6-62CFA4D3202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3724E47-F679-4D72-A9CD-9DDE0A5EF1D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5"/>
          <p:cNvSpPr/>
          <p:nvPr/>
        </p:nvSpPr>
        <p:spPr>
          <a:xfrm>
            <a:off x="4073400" y="9023400"/>
            <a:ext cx="311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DF3080F-D08B-4EBE-ABA1-F2BF01A5C08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203832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5C6715E-5DAD-44EC-B1A7-1CF563B36BAD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5F07207B-2116-43D1-BACF-E79AED2F035D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5120" y="939600"/>
            <a:ext cx="83185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I</a:t>
            </a:r>
            <a:br>
              <a:rPr sz="4800"/>
            </a:br>
            <a:br>
              <a:rPr sz="48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aling Up To and Using th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 Software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Scalability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duct-development process is scalable when the methods and techniques used will work equally well for larger pro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 typic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es over small product size r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limited to similar application domai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apply to unprecedented syste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work for poorly-managed pro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unlikely to apply when the engineering work is undiscipl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calability Objecti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calability objective is to develop large products with the same quality and productivity as small produ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 will apply only to tasks that were done on the smaller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the new tasks required by the larger project require additional work, productivity will generally decline with increasing job sca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alability Stag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20440" y="1434960"/>
            <a:ext cx="77691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view software systems as being divided into five scalability stag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scalability stage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0: simple routines written by program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1: small programs or modules written by program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2: large programs or components written by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3: large projects or systems written by multiple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4: multi-systems written by many autonomous or loosely-federated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Scope of Scalabilit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268200" y="4429080"/>
            <a:ext cx="10958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ll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66760" y="3070080"/>
            <a:ext cx="10958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dium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s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82240" y="1868400"/>
            <a:ext cx="9694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1157400" y="1782720"/>
            <a:ext cx="7415280" cy="3773520"/>
            <a:chOff x="1157400" y="1782720"/>
            <a:chExt cx="7415280" cy="3773520"/>
          </a:xfrm>
        </p:grpSpPr>
        <p:sp>
          <p:nvSpPr>
            <p:cNvPr id="184" name="Line 7"/>
            <p:cNvSpPr/>
            <p:nvPr/>
          </p:nvSpPr>
          <p:spPr>
            <a:xfrm flipH="1">
              <a:off x="2155320" y="3621240"/>
              <a:ext cx="428760" cy="9586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2994120" y="3619440"/>
              <a:ext cx="625320" cy="10368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>
              <a:off x="5389200" y="3589200"/>
              <a:ext cx="909720" cy="92556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Line 10"/>
            <p:cNvSpPr/>
            <p:nvPr/>
          </p:nvSpPr>
          <p:spPr>
            <a:xfrm>
              <a:off x="6669000" y="3605040"/>
              <a:ext cx="0" cy="11671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>
              <a:off x="7124760" y="3605040"/>
              <a:ext cx="1095480" cy="10922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 flipH="1">
              <a:off x="2965320" y="2359080"/>
              <a:ext cx="1408320" cy="8938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4789440" y="2384280"/>
              <a:ext cx="1392120" cy="7826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Rectangle 14"/>
            <p:cNvSpPr/>
            <p:nvPr/>
          </p:nvSpPr>
          <p:spPr>
            <a:xfrm>
              <a:off x="1157400" y="5111640"/>
              <a:ext cx="852480" cy="40176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C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15"/>
            <p:cNvSpPr/>
            <p:nvPr/>
          </p:nvSpPr>
          <p:spPr>
            <a:xfrm>
              <a:off x="1441440" y="4791240"/>
              <a:ext cx="85104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B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Rectangle 16"/>
            <p:cNvSpPr/>
            <p:nvPr/>
          </p:nvSpPr>
          <p:spPr>
            <a:xfrm>
              <a:off x="1698480" y="4489560"/>
              <a:ext cx="851040" cy="4014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A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Rectangle 17"/>
            <p:cNvSpPr/>
            <p:nvPr/>
          </p:nvSpPr>
          <p:spPr>
            <a:xfrm>
              <a:off x="2859120" y="5154480"/>
              <a:ext cx="852480" cy="40176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F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3127320" y="4834080"/>
              <a:ext cx="85104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Rectangle 19"/>
            <p:cNvSpPr/>
            <p:nvPr/>
          </p:nvSpPr>
          <p:spPr>
            <a:xfrm>
              <a:off x="3400560" y="4532400"/>
              <a:ext cx="852480" cy="40140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7" name="Rectangle 20"/>
            <p:cNvSpPr/>
            <p:nvPr/>
          </p:nvSpPr>
          <p:spPr>
            <a:xfrm>
              <a:off x="4552920" y="5140440"/>
              <a:ext cx="851040" cy="40140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I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8" name="Rectangle 21"/>
            <p:cNvSpPr/>
            <p:nvPr/>
          </p:nvSpPr>
          <p:spPr>
            <a:xfrm>
              <a:off x="4819680" y="4819680"/>
              <a:ext cx="85248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H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9" name="Rectangle 22"/>
            <p:cNvSpPr/>
            <p:nvPr/>
          </p:nvSpPr>
          <p:spPr>
            <a:xfrm>
              <a:off x="5076720" y="4518000"/>
              <a:ext cx="852480" cy="401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G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0" name="Rectangle 23"/>
            <p:cNvSpPr/>
            <p:nvPr/>
          </p:nvSpPr>
          <p:spPr>
            <a:xfrm>
              <a:off x="5865840" y="5126040"/>
              <a:ext cx="851040" cy="40176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L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1" name="Rectangle 24"/>
            <p:cNvSpPr/>
            <p:nvPr/>
          </p:nvSpPr>
          <p:spPr>
            <a:xfrm>
              <a:off x="6132600" y="4805280"/>
              <a:ext cx="85248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K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2" name="Rectangle 25"/>
            <p:cNvSpPr/>
            <p:nvPr/>
          </p:nvSpPr>
          <p:spPr>
            <a:xfrm>
              <a:off x="6389640" y="4503600"/>
              <a:ext cx="852480" cy="401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J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3" name="Rectangle 26"/>
            <p:cNvSpPr/>
            <p:nvPr/>
          </p:nvSpPr>
          <p:spPr>
            <a:xfrm>
              <a:off x="7196040" y="5140440"/>
              <a:ext cx="851040" cy="401400"/>
            </a:xfrm>
            <a:prstGeom prst="rect">
              <a:avLst/>
            </a:prstGeom>
            <a:solidFill>
              <a:srgbClr val="666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O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4" name="Rectangle 27"/>
            <p:cNvSpPr/>
            <p:nvPr/>
          </p:nvSpPr>
          <p:spPr>
            <a:xfrm>
              <a:off x="7462800" y="4819680"/>
              <a:ext cx="852480" cy="403200"/>
            </a:xfrm>
            <a:prstGeom prst="rect">
              <a:avLst/>
            </a:prstGeom>
            <a:solidFill>
              <a:srgbClr val="474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N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5" name="Rectangle 28"/>
            <p:cNvSpPr/>
            <p:nvPr/>
          </p:nvSpPr>
          <p:spPr>
            <a:xfrm>
              <a:off x="7719840" y="4518000"/>
              <a:ext cx="852840" cy="4017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odule M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>
              <a:off x="2006640" y="3191040"/>
              <a:ext cx="1303200" cy="403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Component X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>
              <a:off x="5972040" y="3191040"/>
              <a:ext cx="1301760" cy="403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Component 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>
              <a:off x="3840120" y="1782720"/>
              <a:ext cx="1430280" cy="6094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80"/>
                  </a:solidFill>
                  <a:latin typeface="Arial"/>
                </a:rPr>
                <a:t>Product Z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157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elopment Strategi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evelopment strategy is required when a system is too large to be built in one pie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must be partitioned into ele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elements must be develop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ed elements are integrated into the finished sys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velopment Strategi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rateg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s the smaller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s the order in which they are develop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s the way in which they are integr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strategy is appropriate and the elements are properly develop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ment process will scale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otal development is the sum of the parts plus system design and integ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ome Development Strategi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development strategies are possi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objective is to incrementally build the system so that you can identify key problems at the earliest point in the proces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example strategies are th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essive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 enhancement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st-path enhancement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mmy strate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15760" y="4330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rogressive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Rectangle 1027"/>
          <p:cNvSpPr/>
          <p:nvPr/>
        </p:nvSpPr>
        <p:spPr>
          <a:xfrm>
            <a:off x="812880" y="5016600"/>
            <a:ext cx="752472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rogressive strategy, the functions are developed in the order in which they are executed.  This permits relatively simple testing and little scaffolding or special test facilitie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17" name="Group 1028"/>
          <p:cNvGrpSpPr/>
          <p:nvPr/>
        </p:nvGrpSpPr>
        <p:grpSpPr>
          <a:xfrm>
            <a:off x="825480" y="1492200"/>
            <a:ext cx="7025040" cy="3169080"/>
            <a:chOff x="825480" y="1492200"/>
            <a:chExt cx="7025040" cy="3169080"/>
          </a:xfrm>
        </p:grpSpPr>
        <p:sp>
          <p:nvSpPr>
            <p:cNvPr id="218" name="Line 1029"/>
            <p:cNvSpPr/>
            <p:nvPr/>
          </p:nvSpPr>
          <p:spPr>
            <a:xfrm>
              <a:off x="4987800" y="3205080"/>
              <a:ext cx="5526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Line 1030"/>
            <p:cNvSpPr/>
            <p:nvPr/>
          </p:nvSpPr>
          <p:spPr>
            <a:xfrm>
              <a:off x="5000760" y="4281480"/>
              <a:ext cx="5490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Rectangle 1031"/>
            <p:cNvSpPr/>
            <p:nvPr/>
          </p:nvSpPr>
          <p:spPr>
            <a:xfrm>
              <a:off x="5549760" y="4019400"/>
              <a:ext cx="1687680" cy="57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2nd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nhanc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1" name="Rectangle 1032"/>
            <p:cNvSpPr/>
            <p:nvPr/>
          </p:nvSpPr>
          <p:spPr>
            <a:xfrm>
              <a:off x="3286080" y="2938320"/>
              <a:ext cx="1687680" cy="5763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nhanc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2" name="Rectangle 1033"/>
            <p:cNvSpPr/>
            <p:nvPr/>
          </p:nvSpPr>
          <p:spPr>
            <a:xfrm>
              <a:off x="3286080" y="4019400"/>
              <a:ext cx="1687680" cy="5731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enhanc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3" name="Rectangle 1034"/>
            <p:cNvSpPr/>
            <p:nvPr/>
          </p:nvSpPr>
          <p:spPr>
            <a:xfrm>
              <a:off x="1511280" y="1781280"/>
              <a:ext cx="123048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odul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4" name="Rectangle 1035"/>
            <p:cNvSpPr/>
            <p:nvPr/>
          </p:nvSpPr>
          <p:spPr>
            <a:xfrm>
              <a:off x="1511280" y="2938320"/>
              <a:ext cx="1230480" cy="5763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odul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1036"/>
            <p:cNvSpPr/>
            <p:nvPr/>
          </p:nvSpPr>
          <p:spPr>
            <a:xfrm>
              <a:off x="1511280" y="4019400"/>
              <a:ext cx="1230480" cy="58896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1s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odul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6" name="Line 1037"/>
            <p:cNvSpPr/>
            <p:nvPr/>
          </p:nvSpPr>
          <p:spPr>
            <a:xfrm>
              <a:off x="2739960" y="2022480"/>
              <a:ext cx="5493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7" name="Line 1038"/>
            <p:cNvSpPr/>
            <p:nvPr/>
          </p:nvSpPr>
          <p:spPr>
            <a:xfrm>
              <a:off x="2749680" y="3205080"/>
              <a:ext cx="55224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8" name="Line 1039"/>
            <p:cNvSpPr/>
            <p:nvPr/>
          </p:nvSpPr>
          <p:spPr>
            <a:xfrm>
              <a:off x="2762280" y="4281480"/>
              <a:ext cx="5493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9" name="Line 1040"/>
            <p:cNvSpPr/>
            <p:nvPr/>
          </p:nvSpPr>
          <p:spPr>
            <a:xfrm>
              <a:off x="965160" y="2022480"/>
              <a:ext cx="5508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0" name="Rectangle 1041"/>
            <p:cNvSpPr/>
            <p:nvPr/>
          </p:nvSpPr>
          <p:spPr>
            <a:xfrm>
              <a:off x="837720" y="1725480"/>
              <a:ext cx="3769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I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Rectangle 1042"/>
            <p:cNvSpPr/>
            <p:nvPr/>
          </p:nvSpPr>
          <p:spPr>
            <a:xfrm>
              <a:off x="2853360" y="2060640"/>
              <a:ext cx="522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Ou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Line 1043"/>
            <p:cNvSpPr/>
            <p:nvPr/>
          </p:nvSpPr>
          <p:spPr>
            <a:xfrm>
              <a:off x="976320" y="3205080"/>
              <a:ext cx="5508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Rectangle 1044"/>
            <p:cNvSpPr/>
            <p:nvPr/>
          </p:nvSpPr>
          <p:spPr>
            <a:xfrm>
              <a:off x="5074560" y="3262320"/>
              <a:ext cx="522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Ou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Line 1045"/>
            <p:cNvSpPr/>
            <p:nvPr/>
          </p:nvSpPr>
          <p:spPr>
            <a:xfrm>
              <a:off x="987480" y="4281480"/>
              <a:ext cx="5493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Rectangle 1046"/>
            <p:cNvSpPr/>
            <p:nvPr/>
          </p:nvSpPr>
          <p:spPr>
            <a:xfrm>
              <a:off x="825480" y="1492200"/>
              <a:ext cx="8953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cle 1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Rectangle 1047"/>
            <p:cNvSpPr/>
            <p:nvPr/>
          </p:nvSpPr>
          <p:spPr>
            <a:xfrm>
              <a:off x="825480" y="2625840"/>
              <a:ext cx="8953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cle 2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Rectangle 1048"/>
            <p:cNvSpPr/>
            <p:nvPr/>
          </p:nvSpPr>
          <p:spPr>
            <a:xfrm>
              <a:off x="825480" y="3730680"/>
              <a:ext cx="8953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ycle 3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Rectangle 1049"/>
            <p:cNvSpPr/>
            <p:nvPr/>
          </p:nvSpPr>
          <p:spPr>
            <a:xfrm>
              <a:off x="837720" y="2908440"/>
              <a:ext cx="3769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I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Rectangle 1050"/>
            <p:cNvSpPr/>
            <p:nvPr/>
          </p:nvSpPr>
          <p:spPr>
            <a:xfrm>
              <a:off x="837720" y="3981600"/>
              <a:ext cx="3769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I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Line 1051"/>
            <p:cNvSpPr/>
            <p:nvPr/>
          </p:nvSpPr>
          <p:spPr>
            <a:xfrm>
              <a:off x="7267680" y="4300560"/>
              <a:ext cx="54900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Rectangle 1052"/>
            <p:cNvSpPr/>
            <p:nvPr/>
          </p:nvSpPr>
          <p:spPr>
            <a:xfrm>
              <a:off x="7328520" y="4349880"/>
              <a:ext cx="52200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Times New Roman"/>
                </a:rPr>
                <a:t>Ou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unctional Enhance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819000" y="5268960"/>
            <a:ext cx="757584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functional enhancement, a base system must first be built and then enhanced.  The large size of the base system often requires a different strategy for its development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928800" y="1521000"/>
            <a:ext cx="5425920" cy="3335040"/>
            <a:chOff x="928800" y="1521000"/>
            <a:chExt cx="5425920" cy="3335040"/>
          </a:xfrm>
        </p:grpSpPr>
        <p:sp>
          <p:nvSpPr>
            <p:cNvPr id="245" name="Line 5"/>
            <p:cNvSpPr/>
            <p:nvPr/>
          </p:nvSpPr>
          <p:spPr>
            <a:xfrm>
              <a:off x="2274840" y="2500200"/>
              <a:ext cx="453960" cy="36036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 flipH="1">
              <a:off x="4630320" y="2514600"/>
              <a:ext cx="469800" cy="2858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 flipH="1" flipV="1">
              <a:off x="4641840" y="3552480"/>
              <a:ext cx="512640" cy="3128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Line 8"/>
            <p:cNvSpPr/>
            <p:nvPr/>
          </p:nvSpPr>
          <p:spPr>
            <a:xfrm flipV="1">
              <a:off x="2228760" y="3598560"/>
              <a:ext cx="528840" cy="2826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9" name="Rectangle 9"/>
            <p:cNvSpPr/>
            <p:nvPr/>
          </p:nvSpPr>
          <p:spPr>
            <a:xfrm>
              <a:off x="928800" y="3881520"/>
              <a:ext cx="1842840" cy="974520"/>
            </a:xfrm>
            <a:prstGeom prst="rect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4th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functional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4511520" y="3881520"/>
              <a:ext cx="1843200" cy="974520"/>
            </a:xfrm>
            <a:prstGeom prst="rect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nd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functional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1" name="Rectangle 11"/>
            <p:cNvSpPr/>
            <p:nvPr/>
          </p:nvSpPr>
          <p:spPr>
            <a:xfrm>
              <a:off x="4511520" y="1521000"/>
              <a:ext cx="1843200" cy="974520"/>
            </a:xfrm>
            <a:prstGeom prst="rect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rd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functional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2" name="Oval 12"/>
            <p:cNvSpPr/>
            <p:nvPr/>
          </p:nvSpPr>
          <p:spPr>
            <a:xfrm>
              <a:off x="2516040" y="2571840"/>
              <a:ext cx="2351160" cy="12524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Core system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928800" y="1521000"/>
              <a:ext cx="1842840" cy="974520"/>
            </a:xfrm>
            <a:prstGeom prst="rect">
              <a:avLst/>
            </a:prstGeom>
            <a:solidFill>
              <a:srgbClr val="3399ff"/>
            </a:soli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s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functional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825480"/>
                  <a:tab algn="l" pos="1650960"/>
                  <a:tab algn="l" pos="2476440"/>
                  <a:tab algn="l" pos="3301920"/>
                  <a:tab algn="l" pos="4127400"/>
                  <a:tab algn="l" pos="4952880"/>
                  <a:tab algn="l" pos="5778360"/>
                  <a:tab algn="l" pos="6603840"/>
                  <a:tab algn="l" pos="7429680"/>
                  <a:tab algn="l" pos="8255160"/>
                  <a:tab algn="l" pos="9080640"/>
                  <a:tab algn="l" pos="9906120"/>
                  <a:tab algn="l" pos="107316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Fast-Path Enhancemen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127480" y="1482840"/>
            <a:ext cx="353700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fast-path enhancement,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gh-performance loop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built first, debugged, and measured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its performance is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itable, functional 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hancements are made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enhancement is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sured to ensure that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formance is still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specifications.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1003320" y="1547640"/>
            <a:ext cx="3862440" cy="4426200"/>
            <a:chOff x="1003320" y="1547640"/>
            <a:chExt cx="3862440" cy="4426200"/>
          </a:xfrm>
        </p:grpSpPr>
        <p:sp>
          <p:nvSpPr>
            <p:cNvPr id="257" name="Line 5"/>
            <p:cNvSpPr/>
            <p:nvPr/>
          </p:nvSpPr>
          <p:spPr>
            <a:xfrm>
              <a:off x="1003320" y="3530520"/>
              <a:ext cx="50796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 flipV="1">
              <a:off x="1787400" y="2953800"/>
              <a:ext cx="246240" cy="4273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>
              <a:off x="3157560" y="2443320"/>
              <a:ext cx="507960" cy="25056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0" name="Line 8"/>
            <p:cNvSpPr/>
            <p:nvPr/>
          </p:nvSpPr>
          <p:spPr>
            <a:xfrm flipH="1">
              <a:off x="4014360" y="3745080"/>
              <a:ext cx="149400" cy="4921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 flipH="1" flipV="1">
              <a:off x="2141640" y="4449240"/>
              <a:ext cx="573120" cy="2178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1157400" y="1547640"/>
              <a:ext cx="1190520" cy="4986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s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hanc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2355840" y="5475240"/>
              <a:ext cx="1190520" cy="49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2n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nhanc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2384280" y="3182760"/>
              <a:ext cx="1190880" cy="49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3r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nhanc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3676680" y="1547640"/>
              <a:ext cx="1189080" cy="49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4th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enhanc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1736640" y="2073240"/>
              <a:ext cx="0" cy="1279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4276800" y="2057400"/>
              <a:ext cx="0" cy="13921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2967120" y="2614680"/>
              <a:ext cx="1440" cy="5461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9" name="Line 17"/>
            <p:cNvSpPr/>
            <p:nvPr/>
          </p:nvSpPr>
          <p:spPr>
            <a:xfrm>
              <a:off x="2965320" y="4889520"/>
              <a:ext cx="0" cy="5572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 flipV="1">
              <a:off x="2206800" y="2440080"/>
              <a:ext cx="512640" cy="2188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1" name="Line 19"/>
            <p:cNvSpPr/>
            <p:nvPr/>
          </p:nvSpPr>
          <p:spPr>
            <a:xfrm>
              <a:off x="3929040" y="2957400"/>
              <a:ext cx="336600" cy="4222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 flipH="1">
              <a:off x="3211200" y="4500720"/>
              <a:ext cx="453960" cy="21888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3" name="Line 21"/>
            <p:cNvSpPr/>
            <p:nvPr/>
          </p:nvSpPr>
          <p:spPr>
            <a:xfrm flipH="1" flipV="1">
              <a:off x="1755720" y="3678120"/>
              <a:ext cx="277920" cy="64152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>
              <a:off x="1577880" y="3381480"/>
              <a:ext cx="360360" cy="3445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>
              <a:off x="1908000" y="2597040"/>
              <a:ext cx="385920" cy="3700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>
              <a:off x="2778120" y="2266920"/>
              <a:ext cx="360360" cy="3445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7" name="Oval 25"/>
            <p:cNvSpPr/>
            <p:nvPr/>
          </p:nvSpPr>
          <p:spPr>
            <a:xfrm>
              <a:off x="3622680" y="2597040"/>
              <a:ext cx="385920" cy="37008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d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8" name="Oval 26"/>
            <p:cNvSpPr/>
            <p:nvPr/>
          </p:nvSpPr>
          <p:spPr>
            <a:xfrm>
              <a:off x="4064040" y="3381480"/>
              <a:ext cx="360360" cy="3445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9" name="Oval 27"/>
            <p:cNvSpPr/>
            <p:nvPr/>
          </p:nvSpPr>
          <p:spPr>
            <a:xfrm>
              <a:off x="1908000" y="4140360"/>
              <a:ext cx="385920" cy="36972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h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0" name="Oval 28"/>
            <p:cNvSpPr/>
            <p:nvPr/>
          </p:nvSpPr>
          <p:spPr>
            <a:xfrm>
              <a:off x="2778120" y="4495680"/>
              <a:ext cx="360360" cy="344520"/>
            </a:xfrm>
            <a:prstGeom prst="ellipse">
              <a:avLst/>
            </a:prstGeom>
            <a:solidFill>
              <a:srgbClr val="3399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1" name="Oval 29"/>
            <p:cNvSpPr/>
            <p:nvPr/>
          </p:nvSpPr>
          <p:spPr>
            <a:xfrm>
              <a:off x="3622680" y="4140360"/>
              <a:ext cx="385920" cy="36972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ccff"/>
                  </a:solidFill>
                  <a:latin typeface="Arial"/>
                </a:rPr>
                <a:t>f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7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Dummy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3" name="Oval 3"/>
          <p:cNvSpPr/>
          <p:nvPr/>
        </p:nvSpPr>
        <p:spPr>
          <a:xfrm>
            <a:off x="3414600" y="2963880"/>
            <a:ext cx="35244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4" name="Oval 4"/>
          <p:cNvSpPr/>
          <p:nvPr/>
        </p:nvSpPr>
        <p:spPr>
          <a:xfrm>
            <a:off x="3987720" y="2963880"/>
            <a:ext cx="35244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5" name="Line 5"/>
          <p:cNvSpPr/>
          <p:nvPr/>
        </p:nvSpPr>
        <p:spPr>
          <a:xfrm flipH="1">
            <a:off x="2574720" y="2419200"/>
            <a:ext cx="811080" cy="113364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3611520" y="2476440"/>
            <a:ext cx="0" cy="4762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3835440" y="2435400"/>
            <a:ext cx="299880" cy="5490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3159000" y="1808280"/>
            <a:ext cx="922320" cy="6490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2379600" y="3494160"/>
            <a:ext cx="836640" cy="43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833400" y="4680000"/>
            <a:ext cx="59371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 the dummy strategy, a core system is built first, with dummy code substituted for all or most of the system’s functions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8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, these dummies are gradually replaced with the full functions as they are developed.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933480" y="2968560"/>
            <a:ext cx="35388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1530360" y="2963880"/>
            <a:ext cx="35244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2103480" y="2963880"/>
            <a:ext cx="35388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4" name="Line 14"/>
          <p:cNvSpPr/>
          <p:nvPr/>
        </p:nvSpPr>
        <p:spPr>
          <a:xfrm flipH="1">
            <a:off x="1125000" y="2427120"/>
            <a:ext cx="411480" cy="54144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1728720" y="2476440"/>
            <a:ext cx="0" cy="4762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1943280" y="2443320"/>
            <a:ext cx="307800" cy="5410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1274760" y="1808280"/>
            <a:ext cx="922320" cy="6490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5510160" y="2484360"/>
            <a:ext cx="0" cy="15526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5064120" y="4013280"/>
            <a:ext cx="836640" cy="434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0" name="Line 20"/>
          <p:cNvSpPr/>
          <p:nvPr/>
        </p:nvSpPr>
        <p:spPr>
          <a:xfrm flipH="1">
            <a:off x="4460400" y="2433600"/>
            <a:ext cx="825480" cy="111924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5713560" y="2435400"/>
            <a:ext cx="307800" cy="54900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5045040" y="1808280"/>
            <a:ext cx="922320" cy="6490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4265640" y="3494160"/>
            <a:ext cx="836640" cy="43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5873760" y="2963880"/>
            <a:ext cx="353880" cy="3049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5" name="Rectangle 25"/>
          <p:cNvSpPr/>
          <p:nvPr/>
        </p:nvSpPr>
        <p:spPr>
          <a:xfrm>
            <a:off x="7877160" y="4527720"/>
            <a:ext cx="836640" cy="434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6" name="Line 26"/>
          <p:cNvSpPr/>
          <p:nvPr/>
        </p:nvSpPr>
        <p:spPr>
          <a:xfrm>
            <a:off x="7481880" y="2484360"/>
            <a:ext cx="0" cy="15526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7035840" y="4013280"/>
            <a:ext cx="836640" cy="4348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8" name="Line 28"/>
          <p:cNvSpPr/>
          <p:nvPr/>
        </p:nvSpPr>
        <p:spPr>
          <a:xfrm flipH="1">
            <a:off x="6434280" y="2441520"/>
            <a:ext cx="830160" cy="111132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09" name="Line 29"/>
          <p:cNvSpPr/>
          <p:nvPr/>
        </p:nvSpPr>
        <p:spPr>
          <a:xfrm>
            <a:off x="7684920" y="2435400"/>
            <a:ext cx="621000" cy="206028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0" name="Oval 30"/>
          <p:cNvSpPr/>
          <p:nvPr/>
        </p:nvSpPr>
        <p:spPr>
          <a:xfrm>
            <a:off x="7016760" y="1808280"/>
            <a:ext cx="922320" cy="64908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6237360" y="3494160"/>
            <a:ext cx="836640" cy="433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yclic P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ic PSP (PSP3) provides a framework for using a cyclic development strategy to develop modest-sized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requirements, planning, and postmortem steps are done once for the total progra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-level design partitions the program into smaller elements and establishes the development strategy which determines the cyclic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velopment step contains multiple PSP2.1-like cycl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03160" y="4330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yclic PSP Flo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5" name="Rectangle 1027"/>
          <p:cNvSpPr/>
          <p:nvPr/>
        </p:nvSpPr>
        <p:spPr>
          <a:xfrm>
            <a:off x="2117880" y="2255760"/>
            <a:ext cx="1618920" cy="461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-level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ign (HLD)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6" name="Rectangle 1028"/>
          <p:cNvSpPr/>
          <p:nvPr/>
        </p:nvSpPr>
        <p:spPr>
          <a:xfrm>
            <a:off x="2117880" y="1560600"/>
            <a:ext cx="1618920" cy="46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d planning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7" name="Rectangle 1029"/>
          <p:cNvSpPr/>
          <p:nvPr/>
        </p:nvSpPr>
        <p:spPr>
          <a:xfrm>
            <a:off x="2117880" y="2949480"/>
            <a:ext cx="1618920" cy="463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LD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8" name="Rectangle 1030"/>
          <p:cNvSpPr/>
          <p:nvPr/>
        </p:nvSpPr>
        <p:spPr>
          <a:xfrm>
            <a:off x="2117880" y="5032440"/>
            <a:ext cx="1618920" cy="46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ystem tes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19" name="Rectangle 1031"/>
          <p:cNvSpPr/>
          <p:nvPr/>
        </p:nvSpPr>
        <p:spPr>
          <a:xfrm>
            <a:off x="2117880" y="4338720"/>
            <a:ext cx="1618920" cy="461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0" name="Rectangle 1032"/>
          <p:cNvSpPr/>
          <p:nvPr/>
        </p:nvSpPr>
        <p:spPr>
          <a:xfrm>
            <a:off x="2117880" y="3645000"/>
            <a:ext cx="1618920" cy="463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yclic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1" name="Line 1033"/>
          <p:cNvSpPr/>
          <p:nvPr/>
        </p:nvSpPr>
        <p:spPr>
          <a:xfrm>
            <a:off x="2886120" y="2038320"/>
            <a:ext cx="3240" cy="21744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2" name="Line 1034"/>
          <p:cNvSpPr/>
          <p:nvPr/>
        </p:nvSpPr>
        <p:spPr>
          <a:xfrm>
            <a:off x="2886120" y="2733840"/>
            <a:ext cx="3240" cy="21564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3" name="Line 1035"/>
          <p:cNvSpPr/>
          <p:nvPr/>
        </p:nvSpPr>
        <p:spPr>
          <a:xfrm>
            <a:off x="2886120" y="3425760"/>
            <a:ext cx="3240" cy="21924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4" name="Line 1036"/>
          <p:cNvSpPr/>
          <p:nvPr/>
        </p:nvSpPr>
        <p:spPr>
          <a:xfrm>
            <a:off x="2886120" y="4121280"/>
            <a:ext cx="3240" cy="21744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5" name="Line 1037"/>
          <p:cNvSpPr/>
          <p:nvPr/>
        </p:nvSpPr>
        <p:spPr>
          <a:xfrm>
            <a:off x="2886120" y="4816440"/>
            <a:ext cx="3240" cy="216000"/>
          </a:xfrm>
          <a:prstGeom prst="line">
            <a:avLst/>
          </a:prstGeom>
          <a:ln w="25560">
            <a:solidFill>
              <a:srgbClr val="cccc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6" name="Line 1038"/>
          <p:cNvSpPr/>
          <p:nvPr/>
        </p:nvSpPr>
        <p:spPr>
          <a:xfrm>
            <a:off x="1316160" y="1916280"/>
            <a:ext cx="67284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7" name="Line 1039"/>
          <p:cNvSpPr/>
          <p:nvPr/>
        </p:nvSpPr>
        <p:spPr>
          <a:xfrm flipH="1">
            <a:off x="1316160" y="5308560"/>
            <a:ext cx="706320" cy="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8" name="Line 1040"/>
          <p:cNvSpPr/>
          <p:nvPr/>
        </p:nvSpPr>
        <p:spPr>
          <a:xfrm flipH="1" flipV="1">
            <a:off x="3792240" y="3930480"/>
            <a:ext cx="1074600" cy="176688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29" name="Line 1041"/>
          <p:cNvSpPr/>
          <p:nvPr/>
        </p:nvSpPr>
        <p:spPr>
          <a:xfrm flipV="1">
            <a:off x="3792600" y="1384200"/>
            <a:ext cx="1150920" cy="223056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0" name="Arc 1042"/>
          <p:cNvSpPr/>
          <p:nvPr/>
        </p:nvSpPr>
        <p:spPr>
          <a:xfrm>
            <a:off x="6681960" y="3473280"/>
            <a:ext cx="969840" cy="2743200"/>
          </a:xfrm>
          <a:custGeom>
            <a:avLst/>
            <a:gdLst/>
            <a:ahLst/>
            <a:rect l="l" t="t" r="r" b="b"/>
            <a:pathLst>
              <a:path fill="none" w="21778" h="21600">
                <a:moveTo>
                  <a:pt x="21777" y="37"/>
                </a:moveTo>
                <a:cubicBezTo>
                  <a:pt x="21757" y="11952"/>
                  <a:pt x="12092" y="21599"/>
                  <a:pt x="178" y="21600"/>
                </a:cubicBezTo>
                <a:cubicBezTo>
                  <a:pt x="118" y="21600"/>
                  <a:pt x="59" y="21599"/>
                  <a:pt x="-1" y="21599"/>
                </a:cubicBezTo>
              </a:path>
              <a:path stroke="0" w="21778" h="21600">
                <a:moveTo>
                  <a:pt x="21777" y="37"/>
                </a:moveTo>
                <a:cubicBezTo>
                  <a:pt x="21757" y="11952"/>
                  <a:pt x="12092" y="21599"/>
                  <a:pt x="178" y="21600"/>
                </a:cubicBezTo>
                <a:cubicBezTo>
                  <a:pt x="118" y="21600"/>
                  <a:pt x="59" y="21599"/>
                  <a:pt x="-1" y="21599"/>
                </a:cubicBezTo>
                <a:lnTo>
                  <a:pt x="178" y="0"/>
                </a:lnTo>
                <a:lnTo>
                  <a:pt x="21777" y="37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1" name="Arc 1043"/>
          <p:cNvSpPr/>
          <p:nvPr/>
        </p:nvSpPr>
        <p:spPr>
          <a:xfrm>
            <a:off x="6686640" y="1628640"/>
            <a:ext cx="961920" cy="185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2" name="Rectangle 1044"/>
          <p:cNvSpPr/>
          <p:nvPr/>
        </p:nvSpPr>
        <p:spPr>
          <a:xfrm>
            <a:off x="846000" y="1562040"/>
            <a:ext cx="120564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3" name="Rectangle 1045"/>
          <p:cNvSpPr/>
          <p:nvPr/>
        </p:nvSpPr>
        <p:spPr>
          <a:xfrm>
            <a:off x="871200" y="4987800"/>
            <a:ext cx="74520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4" name="Line 1046"/>
          <p:cNvSpPr/>
          <p:nvPr/>
        </p:nvSpPr>
        <p:spPr>
          <a:xfrm flipV="1">
            <a:off x="3792600" y="2155320"/>
            <a:ext cx="1074600" cy="1692360"/>
          </a:xfrm>
          <a:prstGeom prst="line">
            <a:avLst/>
          </a:prstGeom>
          <a:ln w="1260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5" name="Line 1047"/>
          <p:cNvSpPr/>
          <p:nvPr/>
        </p:nvSpPr>
        <p:spPr>
          <a:xfrm>
            <a:off x="3795840" y="4165560"/>
            <a:ext cx="996840" cy="2152800"/>
          </a:xfrm>
          <a:prstGeom prst="line">
            <a:avLst/>
          </a:prstGeom>
          <a:ln w="1260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6" name="Oval 1048"/>
          <p:cNvSpPr/>
          <p:nvPr/>
        </p:nvSpPr>
        <p:spPr>
          <a:xfrm>
            <a:off x="4587840" y="2116080"/>
            <a:ext cx="55440" cy="5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37" name="Oval 1049"/>
          <p:cNvSpPr/>
          <p:nvPr/>
        </p:nvSpPr>
        <p:spPr>
          <a:xfrm>
            <a:off x="4579920" y="2270160"/>
            <a:ext cx="730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338" name="Group 1050"/>
          <p:cNvGrpSpPr/>
          <p:nvPr/>
        </p:nvGrpSpPr>
        <p:grpSpPr>
          <a:xfrm>
            <a:off x="4971960" y="1560600"/>
            <a:ext cx="1620720" cy="4628880"/>
            <a:chOff x="4971960" y="1560600"/>
            <a:chExt cx="1620720" cy="4628880"/>
          </a:xfrm>
        </p:grpSpPr>
        <p:sp>
          <p:nvSpPr>
            <p:cNvPr id="339" name="Rectangle 1051"/>
            <p:cNvSpPr/>
            <p:nvPr/>
          </p:nvSpPr>
          <p:spPr>
            <a:xfrm>
              <a:off x="4971960" y="2255760"/>
              <a:ext cx="1620720" cy="461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etailed design and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design review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0" name="Rectangle 1052"/>
            <p:cNvSpPr/>
            <p:nvPr/>
          </p:nvSpPr>
          <p:spPr>
            <a:xfrm>
              <a:off x="4971960" y="1560600"/>
              <a:ext cx="1620720" cy="463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pecify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ycle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1" name="Rectangle 1053"/>
            <p:cNvSpPr/>
            <p:nvPr/>
          </p:nvSpPr>
          <p:spPr>
            <a:xfrm>
              <a:off x="4971960" y="2949480"/>
              <a:ext cx="1620720" cy="4636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est development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review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2" name="Rectangle 1054"/>
            <p:cNvSpPr/>
            <p:nvPr/>
          </p:nvSpPr>
          <p:spPr>
            <a:xfrm>
              <a:off x="4971960" y="5032440"/>
              <a:ext cx="1620720" cy="463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Test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3" name="Rectangle 1055"/>
            <p:cNvSpPr/>
            <p:nvPr/>
          </p:nvSpPr>
          <p:spPr>
            <a:xfrm>
              <a:off x="4971960" y="4338720"/>
              <a:ext cx="1620720" cy="461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mpile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4" name="Rectangle 1056"/>
            <p:cNvSpPr/>
            <p:nvPr/>
          </p:nvSpPr>
          <p:spPr>
            <a:xfrm>
              <a:off x="4971960" y="3645000"/>
              <a:ext cx="1620720" cy="463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code review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5" name="Rectangle 1057"/>
            <p:cNvSpPr/>
            <p:nvPr/>
          </p:nvSpPr>
          <p:spPr>
            <a:xfrm>
              <a:off x="4971960" y="5727600"/>
              <a:ext cx="1620720" cy="4618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eassess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and recycle</a:t>
              </a:r>
              <a:endParaRPr b="1" lang="en-US" sz="11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6" name="Line 1058"/>
            <p:cNvSpPr/>
            <p:nvPr/>
          </p:nvSpPr>
          <p:spPr>
            <a:xfrm>
              <a:off x="5742000" y="2038320"/>
              <a:ext cx="1440" cy="217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7" name="Line 1059"/>
            <p:cNvSpPr/>
            <p:nvPr/>
          </p:nvSpPr>
          <p:spPr>
            <a:xfrm>
              <a:off x="5742000" y="2733480"/>
              <a:ext cx="1440" cy="2160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8" name="Line 1060"/>
            <p:cNvSpPr/>
            <p:nvPr/>
          </p:nvSpPr>
          <p:spPr>
            <a:xfrm>
              <a:off x="5742000" y="3425760"/>
              <a:ext cx="1440" cy="2192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9" name="Line 1061"/>
            <p:cNvSpPr/>
            <p:nvPr/>
          </p:nvSpPr>
          <p:spPr>
            <a:xfrm>
              <a:off x="5742000" y="4120920"/>
              <a:ext cx="1440" cy="2178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0" name="Line 1062"/>
            <p:cNvSpPr/>
            <p:nvPr/>
          </p:nvSpPr>
          <p:spPr>
            <a:xfrm>
              <a:off x="5742000" y="4816440"/>
              <a:ext cx="1440" cy="21600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1" name="Line 1063"/>
            <p:cNvSpPr/>
            <p:nvPr/>
          </p:nvSpPr>
          <p:spPr>
            <a:xfrm>
              <a:off x="5742000" y="5510160"/>
              <a:ext cx="1440" cy="21744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352" name="Oval 1064"/>
          <p:cNvSpPr/>
          <p:nvPr/>
        </p:nvSpPr>
        <p:spPr>
          <a:xfrm>
            <a:off x="4579920" y="2427120"/>
            <a:ext cx="73080" cy="57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353" name="Group 1065"/>
          <p:cNvGrpSpPr/>
          <p:nvPr/>
        </p:nvGrpSpPr>
        <p:grpSpPr>
          <a:xfrm>
            <a:off x="4684680" y="5630760"/>
            <a:ext cx="57240" cy="399960"/>
            <a:chOff x="4684680" y="5630760"/>
            <a:chExt cx="57240" cy="399960"/>
          </a:xfrm>
        </p:grpSpPr>
        <p:sp>
          <p:nvSpPr>
            <p:cNvPr id="354" name="Oval 1066"/>
            <p:cNvSpPr/>
            <p:nvPr/>
          </p:nvSpPr>
          <p:spPr>
            <a:xfrm>
              <a:off x="4684680" y="5803920"/>
              <a:ext cx="57240" cy="54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5" name="Oval 1067"/>
            <p:cNvSpPr/>
            <p:nvPr/>
          </p:nvSpPr>
          <p:spPr>
            <a:xfrm>
              <a:off x="4684680" y="5630760"/>
              <a:ext cx="572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6" name="Oval 1068"/>
            <p:cNvSpPr/>
            <p:nvPr/>
          </p:nvSpPr>
          <p:spPr>
            <a:xfrm>
              <a:off x="4684680" y="5973840"/>
              <a:ext cx="572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Scalability Limitation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scalability extends to scalability stage 0 or 1 programs that are less than a few KLO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0:  simple routines or obj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1:  small programs or mod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.1 or PSP3 can be applied directly to stage 0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ge 1 programs will probably require PSP3, or at least several PSP2.1 iteration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and schedule plans should be used to track the development of each product element or cyc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Scaling Up Beyond PSP:  T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is a good software process for small projects with one or two engine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er projects require team effort and a team software process that integrates with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eam process must also address how to build effective teams and sustain their performance throughout a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orking in Team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5480" y="1501560"/>
            <a:ext cx="741060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ccessful teams are both satisfying and rar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though many teams come close to meeting their product and business goals, they often do so at the expense of the tea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something magical about an effective tea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t has an ethic, an attitude, and an energy that permeate everything it do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teammates support one ano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y intuitively know when and how to help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y rally around at just the right tim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members are part of a common effor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22120">
              <a:buClr>
                <a:srgbClr val="ffffff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y have a sense of belonging and a feeling of camaraderi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troduction to the TEAM Software Proces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Humphre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we call a “jelled team.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 Success or Failure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team’s success or failure is often attributable to their ability to work as a tea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issues are generally not as important to team success as non-technical issues or “people” issu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ople issues are often caused by non-technical issues that produce frustration, anger, and dysfunctional behaviors that are disruptive to the tea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Non-technical Issu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key non-technical issues that affect teams 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or leadersh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-supportive work environ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clear or shared understanding of individual responsi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goals or prior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d commit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fined or unplanned approach to the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realistic expec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ck of discipline or commi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these issues are not addressed by the team or management, team performance suff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How Successful Teams Evolv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ability of a team to effectively work together develops over tim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s generally begin wi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e go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lear sense of responsi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gue ideas of the product to be buil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t approaches to the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ime, team members may converge on a common understanding of these facto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, they are able to achieve their best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quirements of Team Member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lled team members are also a key attribute of an effective team, but technical skill alone is not enoug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work also requires personal discipline because the work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interdepen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olves shared commi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 discipline means that all team members understand their own abilities and can make realistic commitm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0200" y="446040"/>
            <a:ext cx="819612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09280" y="1450800"/>
            <a:ext cx="755964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ersonal Software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lability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ment strateg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ic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Software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ing in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the T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launch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ing a TSP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the TSP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is a framework and a process structure for building and guiding engineering teams that develop softw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contai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66ffff"/>
                </a:solidFill>
                <a:latin typeface="Arial"/>
              </a:rPr>
              <a:t>team-buil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cess that addresses the team goals, commitment, cohesion, and structure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66ffff"/>
                </a:solidFill>
                <a:latin typeface="Arial"/>
              </a:rPr>
              <a:t>team-work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cess that addresses engineering processes and practices used by the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erequisite for a team to use the TSP is an understanding of the software engineering and process skills taught in the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87520" y="4251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uilding Effective Teams with T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74" name="Group 20"/>
          <p:cNvGrpSpPr/>
          <p:nvPr/>
        </p:nvGrpSpPr>
        <p:grpSpPr>
          <a:xfrm>
            <a:off x="446040" y="1376280"/>
            <a:ext cx="8077320" cy="5058000"/>
            <a:chOff x="446040" y="1376280"/>
            <a:chExt cx="8077320" cy="5058000"/>
          </a:xfrm>
        </p:grpSpPr>
        <p:sp>
          <p:nvSpPr>
            <p:cNvPr id="375" name="Rectangle 4"/>
            <p:cNvSpPr/>
            <p:nvPr/>
          </p:nvSpPr>
          <p:spPr>
            <a:xfrm>
              <a:off x="1282680" y="1376280"/>
              <a:ext cx="1525680" cy="944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kill-build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6" name="Rectangle 5"/>
            <p:cNvSpPr/>
            <p:nvPr/>
          </p:nvSpPr>
          <p:spPr>
            <a:xfrm>
              <a:off x="6692760" y="1440000"/>
              <a:ext cx="1447920" cy="888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-wor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7" name="Oval 6"/>
            <p:cNvSpPr/>
            <p:nvPr/>
          </p:nvSpPr>
          <p:spPr>
            <a:xfrm>
              <a:off x="6464160" y="3768840"/>
              <a:ext cx="2059200" cy="1141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nagement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8" name="Oval 7"/>
            <p:cNvSpPr/>
            <p:nvPr/>
          </p:nvSpPr>
          <p:spPr>
            <a:xfrm>
              <a:off x="903240" y="3844800"/>
              <a:ext cx="2133720" cy="989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mber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9" name="Oval 8"/>
            <p:cNvSpPr/>
            <p:nvPr/>
          </p:nvSpPr>
          <p:spPr>
            <a:xfrm>
              <a:off x="3570120" y="3844800"/>
              <a:ext cx="2133720" cy="11430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cipline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0" name="AutoShape 9"/>
            <p:cNvSpPr/>
            <p:nvPr/>
          </p:nvSpPr>
          <p:spPr>
            <a:xfrm>
              <a:off x="3184560" y="2014560"/>
              <a:ext cx="838080" cy="243828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1" name="AutoShape 10"/>
            <p:cNvSpPr/>
            <p:nvPr/>
          </p:nvSpPr>
          <p:spPr>
            <a:xfrm>
              <a:off x="446040" y="2014560"/>
              <a:ext cx="836640" cy="2438280"/>
            </a:xfrm>
            <a:custGeom>
              <a:avLst/>
              <a:gdLst>
                <a:gd name="textAreaLeft" fmla="*/ 111960 w 836640"/>
                <a:gd name="textAreaRight" fmla="*/ 724680 w 83664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2" name="Text Box 11"/>
            <p:cNvSpPr/>
            <p:nvPr/>
          </p:nvSpPr>
          <p:spPr>
            <a:xfrm>
              <a:off x="1046160" y="2473200"/>
              <a:ext cx="20034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ersonal measure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cess disciplin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stimating &amp; plann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Quality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3" name="Text Box 12"/>
            <p:cNvSpPr/>
            <p:nvPr/>
          </p:nvSpPr>
          <p:spPr>
            <a:xfrm>
              <a:off x="3716280" y="2395440"/>
              <a:ext cx="13240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goal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role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pla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alanced pla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4" name="AutoShape 13"/>
            <p:cNvSpPr/>
            <p:nvPr/>
          </p:nvSpPr>
          <p:spPr>
            <a:xfrm>
              <a:off x="5856120" y="2014560"/>
              <a:ext cx="836640" cy="2438280"/>
            </a:xfrm>
            <a:custGeom>
              <a:avLst/>
              <a:gdLst>
                <a:gd name="textAreaLeft" fmla="*/ 111960 w 836640"/>
                <a:gd name="textAreaRight" fmla="*/ 724680 w 83664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5" name="Text Box 14"/>
            <p:cNvSpPr/>
            <p:nvPr/>
          </p:nvSpPr>
          <p:spPr>
            <a:xfrm>
              <a:off x="6456240" y="2367000"/>
              <a:ext cx="19321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communic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coordin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atus trac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isk analysi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report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6" name="Oval 15"/>
            <p:cNvSpPr/>
            <p:nvPr/>
          </p:nvSpPr>
          <p:spPr>
            <a:xfrm>
              <a:off x="3187800" y="5214960"/>
              <a:ext cx="2973240" cy="1219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grated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duct Team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7" name="AutoShape 16"/>
            <p:cNvSpPr/>
            <p:nvPr/>
          </p:nvSpPr>
          <p:spPr>
            <a:xfrm flipV="1">
              <a:off x="1743120" y="4834080"/>
              <a:ext cx="1444680" cy="1449360"/>
            </a:xfrm>
            <a:custGeom>
              <a:avLst/>
              <a:gdLst>
                <a:gd name="textAreaLeft" fmla="*/ 831960 w 1444680"/>
                <a:gd name="textAreaRight" fmla="*/ 1219320 w 1444680"/>
                <a:gd name="textAreaTop" fmla="*/ 195120 h 1449360"/>
                <a:gd name="textAreaBottom" fmla="*/ 620640 h 14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920" rIns="259920" tIns="129960" bIns="1299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8" name="AutoShape 17"/>
            <p:cNvSpPr/>
            <p:nvPr/>
          </p:nvSpPr>
          <p:spPr>
            <a:xfrm flipH="1" flipV="1">
              <a:off x="6160320" y="4909320"/>
              <a:ext cx="1600200" cy="1297080"/>
            </a:xfrm>
            <a:custGeom>
              <a:avLst/>
              <a:gdLst>
                <a:gd name="textAreaLeft" fmla="*/ 920880 w 1600200"/>
                <a:gd name="textAreaRight" fmla="*/ 1351080 w 1600200"/>
                <a:gd name="textAreaTop" fmla="*/ 174240 h 1297080"/>
                <a:gd name="textAreaBottom" fmla="*/ 555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920" rIns="259920" tIns="129960" bIns="1299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9" name="AutoShape 18"/>
            <p:cNvSpPr/>
            <p:nvPr/>
          </p:nvSpPr>
          <p:spPr>
            <a:xfrm>
              <a:off x="4330800" y="4987800"/>
              <a:ext cx="687240" cy="227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69120" bIns="69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3951360" y="1376280"/>
              <a:ext cx="1447560" cy="944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-build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eam Software Proces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Software Process (TSP) is a process for PSP-trained software te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upports integrated product teams with 3 to 15 membe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uses a team-directed approach to team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can be applied to projects that involve both software development and enhanc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Objectiv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was developed 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lp software engineering teams to build quality products within cost and schedule constrai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ild teams quickly and relia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ize team performance throughout a pro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lerate software process improv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level 5 behavior normal and exp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are familiar with the SEI Capability Maturity Model, think of TSP as a CMM maturity level 5 process for te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-directed Proje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projects are team-direc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ing team-directed means that the team manages itself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s and tracks thei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ages the quality of thei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s aggressively to meet team go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must also show management and the customer that they are managing themselv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quently reports status and prog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icipates, plans for, and reports on project ri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Quality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TSP, each team member and the team are responsible for the quality of the wor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gineers certify that their products are of high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SP quality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aluate with PSP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ll for team assistance as nee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certifies that each component is of high qualit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liminary inspection accep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inspection as nee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gration/system test accep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Structure and Flo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17480" y="1477440"/>
            <a:ext cx="38210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facilitates team-building through a defined team launch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unch process kicks off each major projec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mmon understanding of the work and the development approach is establish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lan is produced to guide the next developmen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sequent phases kick off with a relaunch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5292720" y="1379520"/>
            <a:ext cx="1225440" cy="64440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unch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743440" y="2281320"/>
            <a:ext cx="2324160" cy="985680"/>
          </a:xfrm>
          <a:prstGeom prst="rect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 Phase A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3" name="Arc 6"/>
          <p:cNvSpPr/>
          <p:nvPr/>
        </p:nvSpPr>
        <p:spPr>
          <a:xfrm>
            <a:off x="6550200" y="1747800"/>
            <a:ext cx="339480" cy="511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4" name="Oval 7"/>
          <p:cNvSpPr/>
          <p:nvPr/>
        </p:nvSpPr>
        <p:spPr>
          <a:xfrm>
            <a:off x="7307280" y="3444840"/>
            <a:ext cx="1225440" cy="64440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5" name="Arc 8"/>
          <p:cNvSpPr/>
          <p:nvPr/>
        </p:nvSpPr>
        <p:spPr>
          <a:xfrm flipH="1" rot="16200000">
            <a:off x="6831360" y="3346200"/>
            <a:ext cx="503280" cy="382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6" name="Oval 9"/>
          <p:cNvSpPr/>
          <p:nvPr/>
        </p:nvSpPr>
        <p:spPr>
          <a:xfrm>
            <a:off x="5622840" y="4906800"/>
            <a:ext cx="754200" cy="31284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launch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7559640" y="5553000"/>
            <a:ext cx="907920" cy="293760"/>
          </a:xfrm>
          <a:prstGeom prst="ellipse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6634080" y="5207040"/>
            <a:ext cx="909720" cy="314280"/>
          </a:xfrm>
          <a:prstGeom prst="rect">
            <a:avLst/>
          </a:prstGeom>
          <a:solidFill>
            <a:srgbClr val="96969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8440" rIns="28440" tIns="14400" bIns="14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58800"/>
                <a:tab algn="l" pos="1317600"/>
                <a:tab algn="l" pos="1976400"/>
                <a:tab algn="l" pos="2635200"/>
                <a:tab algn="l" pos="3294000"/>
                <a:tab algn="l" pos="3952800"/>
                <a:tab algn="l" pos="4611600"/>
                <a:tab algn="l" pos="5270400"/>
                <a:tab algn="l" pos="5929200"/>
                <a:tab algn="l" pos="6588000"/>
                <a:tab algn="l" pos="7246800"/>
                <a:tab algn="l" pos="7905600"/>
                <a:tab algn="l" pos="8564400"/>
                <a:tab algn="l" pos="9223200"/>
                <a:tab algn="l" pos="9882360"/>
                <a:tab algn="l" pos="105411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hase B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09" name="Arc 12"/>
          <p:cNvSpPr/>
          <p:nvPr/>
        </p:nvSpPr>
        <p:spPr>
          <a:xfrm>
            <a:off x="6383160" y="5045040"/>
            <a:ext cx="351000" cy="171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</a:path>
              <a:path stroke="0" w="21600" h="21600">
                <a:moveTo>
                  <a:pt x="0" y="0"/>
                </a:moveTo>
                <a:cubicBezTo>
                  <a:pt x="11881" y="0"/>
                  <a:pt x="21532" y="9596"/>
                  <a:pt x="21599" y="21478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0" name="Arc 13"/>
          <p:cNvSpPr/>
          <p:nvPr/>
        </p:nvSpPr>
        <p:spPr>
          <a:xfrm>
            <a:off x="7569360" y="5322960"/>
            <a:ext cx="390240" cy="220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875" y="0"/>
                  <a:pt x="21523" y="9586"/>
                  <a:pt x="21599" y="21461"/>
                </a:cubicBezTo>
              </a:path>
              <a:path stroke="0" w="21600" h="21600">
                <a:moveTo>
                  <a:pt x="0" y="0"/>
                </a:moveTo>
                <a:cubicBezTo>
                  <a:pt x="11875" y="0"/>
                  <a:pt x="21523" y="9586"/>
                  <a:pt x="21599" y="21461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324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28080" rIns="28080" tIns="14400" bIns="144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Launch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launch is a three- to four-day workshop used to kick off each project ph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leader and all team members particip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unch workshop is considered to be part of the project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unch workshops are planned and track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Launch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launch performs essential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out the launch, these tasks generally are addressed only when need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is often too late to prevent probl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often cause unanticipated project delay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aunch workshop accelerates team build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establishes a common understanding of the work and the approach that they will use to do the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make a plan that they can commit to and obtain management support for their pla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5360" y="419040"/>
            <a:ext cx="7707240" cy="6336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Launch Process Meeting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1166400" y="14479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1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838080" y="2095560"/>
            <a:ext cx="144792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  Establish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 and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838080" y="3405240"/>
            <a:ext cx="1447920" cy="98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  Assign role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d define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am goal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957040" y="14479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2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2629080" y="2095560"/>
            <a:ext cx="144756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  Build top-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 and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-phase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2629080" y="3405240"/>
            <a:ext cx="1447560" cy="98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  Develop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 quality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2629080" y="4686480"/>
            <a:ext cx="1447560" cy="990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.  Build bottom-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p an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solidate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1562040" y="308628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4" name="Line 11"/>
          <p:cNvSpPr/>
          <p:nvPr/>
        </p:nvSpPr>
        <p:spPr>
          <a:xfrm>
            <a:off x="3352680" y="308628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5" name="Line 12"/>
          <p:cNvSpPr/>
          <p:nvPr/>
        </p:nvSpPr>
        <p:spPr>
          <a:xfrm>
            <a:off x="3352680" y="438156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4785840" y="14479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3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457880" y="2095560"/>
            <a:ext cx="144756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  Conduc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8" name="Rectangle 15"/>
          <p:cNvSpPr/>
          <p:nvPr/>
        </p:nvSpPr>
        <p:spPr>
          <a:xfrm>
            <a:off x="4457880" y="3405240"/>
            <a:ext cx="1447560" cy="98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  Prepare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iefing an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unch repor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9" name="Rectangle 16"/>
          <p:cNvSpPr/>
          <p:nvPr/>
        </p:nvSpPr>
        <p:spPr>
          <a:xfrm>
            <a:off x="6327720" y="3405240"/>
            <a:ext cx="144792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aunch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5181480" y="308628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7097760" y="3105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2" name="Text Box 19"/>
          <p:cNvSpPr/>
          <p:nvPr/>
        </p:nvSpPr>
        <p:spPr>
          <a:xfrm>
            <a:off x="6554160" y="14479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y 4</a:t>
            </a: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3" name="Rectangle 20"/>
          <p:cNvSpPr/>
          <p:nvPr/>
        </p:nvSpPr>
        <p:spPr>
          <a:xfrm>
            <a:off x="6324480" y="2095560"/>
            <a:ext cx="1447920" cy="9907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.  Hold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4" name="Rectangle 21"/>
          <p:cNvSpPr/>
          <p:nvPr/>
        </p:nvSpPr>
        <p:spPr>
          <a:xfrm>
            <a:off x="6327720" y="4741920"/>
            <a:ext cx="1447920" cy="9889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w teams: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SP process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5" name="Rectangle 22"/>
          <p:cNvSpPr/>
          <p:nvPr/>
        </p:nvSpPr>
        <p:spPr>
          <a:xfrm>
            <a:off x="838080" y="4686480"/>
            <a:ext cx="1447920" cy="9903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  Produce 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1562040" y="438156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cxnSp>
        <p:nvCxnSpPr>
          <p:cNvPr id="437" name="AutoShape 24"/>
          <p:cNvCxnSpPr>
            <a:stCxn id="422" idx="2"/>
            <a:endCxn id="427" idx="1"/>
          </p:cNvCxnSpPr>
          <p:nvPr/>
        </p:nvCxnSpPr>
        <p:spPr>
          <a:xfrm flipH="1" flipV="1" rot="5400000">
            <a:off x="2361960" y="3580920"/>
            <a:ext cx="3086640" cy="1105920"/>
          </a:xfrm>
          <a:prstGeom prst="bentConnector4">
            <a:avLst>
              <a:gd name="adj1" fmla="val -7406"/>
              <a:gd name="adj2" fmla="val 82741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438" name="AutoShape 25"/>
          <p:cNvCxnSpPr>
            <a:stCxn id="435" idx="2"/>
            <a:endCxn id="420" idx="1"/>
          </p:cNvCxnSpPr>
          <p:nvPr/>
        </p:nvCxnSpPr>
        <p:spPr>
          <a:xfrm flipH="1" flipV="1" rot="5400000">
            <a:off x="552240" y="3600000"/>
            <a:ext cx="3086640" cy="1067760"/>
          </a:xfrm>
          <a:prstGeom prst="bentConnector4">
            <a:avLst>
              <a:gd name="adj1" fmla="val -7406"/>
              <a:gd name="adj2" fmla="val 83912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439" name="AutoShape 26"/>
          <p:cNvCxnSpPr>
            <a:stCxn id="428" idx="2"/>
            <a:endCxn id="433" idx="1"/>
          </p:cNvCxnSpPr>
          <p:nvPr/>
        </p:nvCxnSpPr>
        <p:spPr>
          <a:xfrm flipH="1" flipV="1" rot="5400000">
            <a:off x="4850280" y="2920320"/>
            <a:ext cx="1803960" cy="1143720"/>
          </a:xfrm>
          <a:prstGeom prst="bentConnector4">
            <a:avLst>
              <a:gd name="adj1" fmla="val -12674"/>
              <a:gd name="adj2" fmla="val 81643"/>
            </a:avLst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Using the P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more than a process for writing ten very small software progra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ls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 discip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nning and quality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ski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elements of the PSP can be applied to any repetitive, structured tas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ing small software pro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ing high-level desig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ing requirements, test cases, or docu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ined engineers should use the PSP wherever it can be appl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Project Tracking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tracking in the TSP is based on the principles and measures used in the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etailed team and individual plans facilitate precise project trac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team member is responsible f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thering data on thei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ing status against their personal pl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ing the team inform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team member is also responsible for the quality of the work that they produ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Project Tracking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443" name="Group 1027"/>
          <p:cNvGrpSpPr/>
          <p:nvPr/>
        </p:nvGrpSpPr>
        <p:grpSpPr>
          <a:xfrm>
            <a:off x="480960" y="1487520"/>
            <a:ext cx="7876800" cy="4385880"/>
            <a:chOff x="480960" y="1487520"/>
            <a:chExt cx="7876800" cy="4385880"/>
          </a:xfrm>
        </p:grpSpPr>
        <p:sp>
          <p:nvSpPr>
            <p:cNvPr id="444" name="Rectangle 1028"/>
            <p:cNvSpPr/>
            <p:nvPr/>
          </p:nvSpPr>
          <p:spPr>
            <a:xfrm>
              <a:off x="7041240" y="4646520"/>
              <a:ext cx="95868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5" name="Rectangle 1029"/>
            <p:cNvSpPr/>
            <p:nvPr/>
          </p:nvSpPr>
          <p:spPr>
            <a:xfrm>
              <a:off x="5289840" y="5084640"/>
              <a:ext cx="95832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mmar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6" name="Rectangle 1030"/>
            <p:cNvSpPr/>
            <p:nvPr/>
          </p:nvSpPr>
          <p:spPr>
            <a:xfrm>
              <a:off x="7190280" y="4820400"/>
              <a:ext cx="956880" cy="702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7" name="AutoShape 1031"/>
            <p:cNvSpPr/>
            <p:nvPr/>
          </p:nvSpPr>
          <p:spPr>
            <a:xfrm>
              <a:off x="6525000" y="3593160"/>
              <a:ext cx="664920" cy="176040"/>
            </a:xfrm>
            <a:prstGeom prst="rightArrow">
              <a:avLst>
                <a:gd name="adj1" fmla="val 50000"/>
                <a:gd name="adj2" fmla="val 94427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8" name="Rectangle 1032"/>
            <p:cNvSpPr/>
            <p:nvPr/>
          </p:nvSpPr>
          <p:spPr>
            <a:xfrm>
              <a:off x="7300800" y="4996800"/>
              <a:ext cx="95832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chedul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tatus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gineer A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9" name="Rectangle 1033"/>
            <p:cNvSpPr/>
            <p:nvPr/>
          </p:nvSpPr>
          <p:spPr>
            <a:xfrm>
              <a:off x="5289840" y="1575000"/>
              <a:ext cx="958320" cy="702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duc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mmar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0" name="AutoShape 1034"/>
            <p:cNvSpPr/>
            <p:nvPr/>
          </p:nvSpPr>
          <p:spPr>
            <a:xfrm>
              <a:off x="1218240" y="3331440"/>
              <a:ext cx="3490920" cy="700560"/>
            </a:xfrm>
            <a:custGeom>
              <a:avLst/>
              <a:gdLst>
                <a:gd name="textAreaLeft" fmla="*/ 545760 w 3490920"/>
                <a:gd name="textAreaRight" fmla="*/ 3053880 w 3490920"/>
                <a:gd name="textAreaTop" fmla="*/ 176040 h 700560"/>
                <a:gd name="textAreaBottom" fmla="*/ 526680 h 70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1" name="AutoShape 1035"/>
            <p:cNvSpPr/>
            <p:nvPr/>
          </p:nvSpPr>
          <p:spPr>
            <a:xfrm rot="3111600">
              <a:off x="911520" y="2776680"/>
              <a:ext cx="1534320" cy="184320"/>
            </a:xfrm>
            <a:prstGeom prst="rightArrow">
              <a:avLst>
                <a:gd name="adj1" fmla="val 50000"/>
                <a:gd name="adj2" fmla="val 208105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2" name="AutoShape 1036"/>
            <p:cNvSpPr/>
            <p:nvPr/>
          </p:nvSpPr>
          <p:spPr>
            <a:xfrm rot="3111600">
              <a:off x="2606760" y="2777400"/>
              <a:ext cx="1534320" cy="182880"/>
            </a:xfrm>
            <a:prstGeom prst="rightArrow">
              <a:avLst>
                <a:gd name="adj1" fmla="val 50000"/>
                <a:gd name="adj2" fmla="val 209744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3" name="AutoShape 1037"/>
            <p:cNvSpPr/>
            <p:nvPr/>
          </p:nvSpPr>
          <p:spPr>
            <a:xfrm rot="18417000">
              <a:off x="2680560" y="4356000"/>
              <a:ext cx="1533960" cy="184680"/>
            </a:xfrm>
            <a:prstGeom prst="rightArrow">
              <a:avLst>
                <a:gd name="adj1" fmla="val 50000"/>
                <a:gd name="adj2" fmla="val 207651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4" name="AutoShape 1038"/>
            <p:cNvSpPr/>
            <p:nvPr/>
          </p:nvSpPr>
          <p:spPr>
            <a:xfrm rot="18417000">
              <a:off x="911520" y="4356000"/>
              <a:ext cx="1533960" cy="184320"/>
            </a:xfrm>
            <a:prstGeom prst="rightArrow">
              <a:avLst>
                <a:gd name="adj1" fmla="val 50000"/>
                <a:gd name="adj2" fmla="val 208057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5" name="Oval 1039"/>
            <p:cNvSpPr/>
            <p:nvPr/>
          </p:nvSpPr>
          <p:spPr>
            <a:xfrm>
              <a:off x="480960" y="4732560"/>
              <a:ext cx="1326600" cy="1052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defects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y component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d phas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6" name="Oval 1040"/>
            <p:cNvSpPr/>
            <p:nvPr/>
          </p:nvSpPr>
          <p:spPr>
            <a:xfrm>
              <a:off x="2398320" y="4820400"/>
              <a:ext cx="1326600" cy="1053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ize b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pon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7" name="Oval 1041"/>
            <p:cNvSpPr/>
            <p:nvPr/>
          </p:nvSpPr>
          <p:spPr>
            <a:xfrm>
              <a:off x="2398320" y="1575000"/>
              <a:ext cx="1326600" cy="10530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week task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8" name="Oval 1042"/>
            <p:cNvSpPr/>
            <p:nvPr/>
          </p:nvSpPr>
          <p:spPr>
            <a:xfrm>
              <a:off x="555120" y="1487520"/>
              <a:ext cx="1326600" cy="1052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ter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me b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sk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9" name="AutoShape 1043"/>
            <p:cNvSpPr/>
            <p:nvPr/>
          </p:nvSpPr>
          <p:spPr>
            <a:xfrm>
              <a:off x="5732280" y="4119840"/>
              <a:ext cx="146880" cy="964800"/>
            </a:xfrm>
            <a:prstGeom prst="downArrow">
              <a:avLst>
                <a:gd name="adj1" fmla="val 50000"/>
                <a:gd name="adj2" fmla="val 164216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0" name="AutoShape 1044"/>
            <p:cNvSpPr/>
            <p:nvPr/>
          </p:nvSpPr>
          <p:spPr>
            <a:xfrm rot="10800000">
              <a:off x="5732280" y="2278080"/>
              <a:ext cx="146880" cy="964800"/>
            </a:xfrm>
            <a:prstGeom prst="downArrow">
              <a:avLst>
                <a:gd name="adj1" fmla="val 50000"/>
                <a:gd name="adj2" fmla="val 164216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1" name="Rectangle 1045"/>
            <p:cNvSpPr/>
            <p:nvPr/>
          </p:nvSpPr>
          <p:spPr>
            <a:xfrm>
              <a:off x="4709520" y="3154680"/>
              <a:ext cx="2110680" cy="10530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Updated team and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gineer task, schedule,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d quality plans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2" name="AutoShape 1046"/>
            <p:cNvSpPr/>
            <p:nvPr/>
          </p:nvSpPr>
          <p:spPr>
            <a:xfrm rot="5010600">
              <a:off x="7256160" y="4480560"/>
              <a:ext cx="1007640" cy="110160"/>
            </a:xfrm>
            <a:prstGeom prst="rightArrow">
              <a:avLst>
                <a:gd name="adj1" fmla="val 50000"/>
                <a:gd name="adj2" fmla="val 228676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3" name="AutoShape 1047"/>
            <p:cNvSpPr/>
            <p:nvPr/>
          </p:nvSpPr>
          <p:spPr>
            <a:xfrm rot="6050400">
              <a:off x="7126920" y="4111920"/>
              <a:ext cx="1007640" cy="146880"/>
            </a:xfrm>
            <a:prstGeom prst="rightArrow">
              <a:avLst>
                <a:gd name="adj1" fmla="val 50000"/>
                <a:gd name="adj2" fmla="val 171507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4" name="AutoShape 1048"/>
            <p:cNvSpPr/>
            <p:nvPr/>
          </p:nvSpPr>
          <p:spPr>
            <a:xfrm rot="5535600">
              <a:off x="7182360" y="4304880"/>
              <a:ext cx="1009800" cy="110160"/>
            </a:xfrm>
            <a:prstGeom prst="rightArrow">
              <a:avLst>
                <a:gd name="adj1" fmla="val 50000"/>
                <a:gd name="adj2" fmla="val 229167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5" name="AutoShape 1049"/>
            <p:cNvSpPr/>
            <p:nvPr/>
          </p:nvSpPr>
          <p:spPr>
            <a:xfrm rot="15351000">
              <a:off x="6968880" y="2862720"/>
              <a:ext cx="1140840" cy="146880"/>
            </a:xfrm>
            <a:prstGeom prst="rightArrow">
              <a:avLst>
                <a:gd name="adj1" fmla="val 50000"/>
                <a:gd name="adj2" fmla="val 194179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6" name="AutoShape 1050"/>
            <p:cNvSpPr/>
            <p:nvPr/>
          </p:nvSpPr>
          <p:spPr>
            <a:xfrm rot="16015200">
              <a:off x="7060680" y="2948760"/>
              <a:ext cx="1140840" cy="146880"/>
            </a:xfrm>
            <a:prstGeom prst="rightArrow">
              <a:avLst>
                <a:gd name="adj1" fmla="val 50000"/>
                <a:gd name="adj2" fmla="val 194179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7" name="AutoShape 1051"/>
            <p:cNvSpPr/>
            <p:nvPr/>
          </p:nvSpPr>
          <p:spPr>
            <a:xfrm rot="16507200">
              <a:off x="7134840" y="3125160"/>
              <a:ext cx="1140840" cy="146160"/>
            </a:xfrm>
            <a:prstGeom prst="rightArrow">
              <a:avLst>
                <a:gd name="adj1" fmla="val 50000"/>
                <a:gd name="adj2" fmla="val 195135"/>
              </a:avLst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8" name="Rectangle 1052"/>
            <p:cNvSpPr/>
            <p:nvPr/>
          </p:nvSpPr>
          <p:spPr>
            <a:xfrm>
              <a:off x="7190280" y="3331440"/>
              <a:ext cx="116748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eam task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nd schedul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mmary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9" name="Rectangle 1053"/>
            <p:cNvSpPr/>
            <p:nvPr/>
          </p:nvSpPr>
          <p:spPr>
            <a:xfrm>
              <a:off x="7115760" y="1575000"/>
              <a:ext cx="958320" cy="702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0" name="Rectangle 1054"/>
            <p:cNvSpPr/>
            <p:nvPr/>
          </p:nvSpPr>
          <p:spPr>
            <a:xfrm>
              <a:off x="7190280" y="1751760"/>
              <a:ext cx="95688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1" name="Rectangle 1055"/>
            <p:cNvSpPr/>
            <p:nvPr/>
          </p:nvSpPr>
          <p:spPr>
            <a:xfrm>
              <a:off x="7300800" y="1927800"/>
              <a:ext cx="958320" cy="7005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sk status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gineer A</a:t>
              </a:r>
              <a:endParaRPr b="1" lang="en-US" sz="9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and TSP Experienc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sters communication and decision making by the team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 framework for coordinating and tracking team activities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Allied Signal engineers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good project management techniques coupled with good personal data. The problem with most software development is, it’s done with an ad hoc structure.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Dave Webb, i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EEE 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ov 2000, p. 125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may appear at first glance that PSP training will cause a slip in schedule, but you actually get your money back after 1,200 lines of code.”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Bob Musson, i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IEEE 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ov 2000, p.126]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Next Step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you complete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for Engine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rse, you are qualified to be a TSP team memb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also train to be an authorized PSP instructor and TSP launch coac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Instructor Training Purpo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EI offer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Instructor Trai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the purpose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ing others to teach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lerating the transition of PSP into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orizing instructors to ensure the quality of PSP instr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the quality of PSP instr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Instructor Authorizat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successfully completing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Instructor Trai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rse, you will be an authorized PSP instructo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an authorized instructor, you are allowed to use and reproduce the course materials needed to teach PSP within your organiz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required to provide student data and course evaluations for each course you teach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ails will be covered in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Instructor Trai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Instructor Training Strategy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teach the PSP, you must understand the PSP principles, techniques, and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understand the PSP principles, techniques and methods, you must practice using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addition to the PSP course, you will complete assignments that will prepare you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 the PSP to oth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e the PSP into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Instructor Training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15480" y="1701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ry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a written pre-test (open-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mit your PSP student data to the SEI for screening to ensure that you have a basic understanding of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ious teaching or public speaking experi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 five-day training course at the SEI within eighteen months of completing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SP for Engine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 your PSP data and a case stu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 a qualification exam (closed-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Launch Coach Training Purpos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15480" y="1716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EI offer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SP Launch Coach Train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or the purpose o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ching others to coach TSP te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elerating the transition of TSP into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orizing instructors to ensure the quality of TSP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943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SP Launch Coach Training Require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15480" y="1701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ry crite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I-authorized PSP instruc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license agreement between your organization and CM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ke the five-day training course at the SEI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unch exerc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aching scenario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fication exam (closed-boo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uct a TSP launch with a qualified observ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s mentoring of the launch coach candid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s that the candidate has the requisite knowledge and ski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vesting in the P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01720" y="14508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ime inves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development takes about one to two hours per form and scrip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updates will be needed at least every three month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entry and analysis will take about an hour for each PSP-sized projec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motional invest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takes a lot of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will be occasional frustr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clearly see your own limit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Responsible Professional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a responsible professional, you need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nd learn new metho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se methods in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gnize your strengths and weak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fy areas for improv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ctice, practice, pract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ize the methods that you find helpfu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 fro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assure your continuing improv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Do You Want from Software Engineering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your personal objectiv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rprisingly often, we achieve our objectives in ways that we did not expect, so keep an open mind and keep look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we all reach the same end, we should concentrate on the rou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can occasionally achieve excellence, it could be well worth the tri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Benefits of the PSP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1720" y="1450800"/>
            <a:ext cx="76644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gh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tter understand your strengths and weakn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 better able to maximize your asse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will help you to deal objectively with your weakn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defining your process, you assert control over 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act like a process owne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ritical facilities will be in gear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unconsciously observe your working self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see many ways to improve your process and your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Benefits of the PSP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ement frame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efined process provides a language for thinking about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etter see how the process parts rela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etter focus on priority areas for improvem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 contr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a planning frame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the data on which to base your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lans will be more reliabl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 better able to track your statu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 better able to manage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3160" y="4460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Benefits of the PSP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mplishments and personal be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recognize your personal bes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better understand how to repeat and to surpass th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see where and how you have improv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your own personal improvement goal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the satisfaction that comes with knowing that you are doing superio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dapting the PSP to Practic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actical applications of the PSP typically involve requirements that are more complex than a classroom exerci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most software engineers start by modifying PSP2.1 to meet their nee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general approach is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stently apply the concepts and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 the scripts, measures, methods, and for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1998-04-29T15:16:24Z</cp:lastPrinted>
  <dcterms:modified xsi:type="dcterms:W3CDTF">2018-09-06T00:16:30Z</dcterms:modified>
  <cp:revision>95</cp:revision>
  <dc:subject/>
  <dc:title>No Slide Title</dc:title>
</cp:coreProperties>
</file>